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835-A177-4F19-BC15-BA5D815E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C6C-567B-4859-BA0F-8D6A95E3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A49-51EE-42E3-9857-7CFBEBDB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7DB-2F65-4FD9-B0EB-97699267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814-0E57-49DB-9F86-99F5FCA9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AB7-EA3D-4C40-A04E-7FFCF441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9BD-346D-49C5-895D-188BCB5D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46C-D356-4EB2-BCFA-3E1D8FB0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D03-B391-4E5A-8E53-26E68400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2C0-1166-495E-8D1E-60DC6F18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4C9-7051-4BF5-9ADE-527EE1DB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7E7-EF77-4938-965B-A216476F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C491-B73F-4547-8B84-06FE560506A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24680" y="5873760"/>
            <a:ext cx="39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9.08.1864 – 2.01.1939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Dmowski"/>
          <p:cNvPicPr/>
          <p:nvPr/>
        </p:nvPicPr>
        <p:blipFill>
          <a:blip r:embed="rId1"/>
          <a:stretch/>
        </p:blipFill>
        <p:spPr>
          <a:xfrm>
            <a:off x="2484360" y="189000"/>
            <a:ext cx="3694320" cy="5532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208320" y="6434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36:41Z</dcterms:created>
  <dc:creator>IB</dc:creator>
  <dc:description/>
  <dc:language>en-US</dc:language>
  <cp:lastModifiedBy>rena</cp:lastModifiedBy>
  <dcterms:modified xsi:type="dcterms:W3CDTF">2013-03-05T18:46:53Z</dcterms:modified>
  <cp:revision>7</cp:revision>
  <dc:subject/>
  <dc:title>Slajd 1</dc:title>
</cp:coreProperties>
</file>